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F82-BB00-4BE4-94CA-3B44A18E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3FE-4EE7-4551-88F5-3D3F806F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C48-3747-426E-A0BD-B6A4BD08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4C5-D07C-4317-AEB7-702EDB16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5CC-C402-4D86-A209-B23074D2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1DC2-87B3-44B2-BDB1-B02A8DD4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55D-0ECB-42FF-A313-82873B7C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5BEC-90B9-42B8-A2B6-FA1FADAA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756-1A5A-4FB7-82A1-78D9B1F8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FD50-760A-41C3-AC85-BD4EDE4E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FC9C-40A0-40E5-90C5-7B7A5E56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8B41-BDBD-4AB3-8A16-E639D223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CA13-3655-45FC-8151-C6896EF7B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6360"/>
            <a:ext cx="914400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ΠΡΟΣΚΛΗ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Σύλλογος Δυτικομακεδόνων Ν. Καβάλας σας προσκαλεί να τιμήσετε με τη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αρουσία σας την εκδήλωση μας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φιέρωμα Μνήμης στο Μακεδονικό Αγώνα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υ θα πραγματοποιηθεί την Κυριακή 18 Οκτωβρίου 20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ο Αμφιθέατρ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ης  Π.Ε. Καβάλας, ώρα 7μ.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μιλητής :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ΕΡΤΖΟΣ ΝΙΚΟΛΑΟ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ημοσιογράφος-συγγραφέ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έμα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Ο Μακεδονικός Αγώνας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ην εκδήλωση μας θα πλαισιώσουν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)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ικτή χορωδία του Μορφωτικού Ομίλου Βελβεντού Κοζάνης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θ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αρουσιάσει τραγούδια για τον Μακεδονικό Αγώνα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) Το Χορευτικό Τμήμα του Συλλόγου μας με τη συνοδεία παραδοσιακής μουσική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χάλκινα) θα παρουσιάσει χορούς της Μακεδονί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α ακολουθήσει δεξίωση στο Φουαγέ του Αμφιθεάτρο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0T04:10:45Z</dcterms:created>
  <dc:creator>user</dc:creator>
  <dc:description/>
  <dc:language>en-US</dc:language>
  <cp:lastModifiedBy>user</cp:lastModifiedBy>
  <dcterms:modified xsi:type="dcterms:W3CDTF">2015-10-10T05:04:12Z</dcterms:modified>
  <cp:revision>4</cp:revision>
  <dc:subject/>
  <dc:title>Διαφάνεια 1</dc:title>
</cp:coreProperties>
</file>